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47795-A66B-4827-9148-9592E8039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ED3EE-4E9E-4E23-A2EE-BB65E44C7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278F3-1215-4BDC-A673-1CC0B8ED8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2784E-44DA-4558-B2D7-3BAFB5AEA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C5DD6-D03D-4C26-80CA-30FF415B9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E8B55-8AD5-4D6E-B701-777FEE802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67727-87C0-4838-9F5F-199519F75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1E115-2CD2-4495-A133-E7D89C734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BF0AE-864F-4E7C-82E5-226F53ABC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11676-289C-4A0E-8DA3-D12FB9BC1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AE0C9-DACA-44C7-A1EA-B1811BC7B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7767A-D3E4-465F-AADC-3F7CCB6F1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BE5D3-33AA-4D4D-BAE1-6B23FCD3E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FB176-72BC-4D56-8171-7C524C8B5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95311-0E1A-4620-B124-80B379E8D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61C8B-F0FD-49DB-A68D-B68DD3529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37F54-3A5F-4CA1-9F81-A81A5FFCE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D0BC9-AA5A-4FBD-9794-DB36187E9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1EF6A-2840-47C7-974C-37D0C4E47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CC3D3-276B-4B87-ADB0-8A5AD113F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FA2F6-0814-4261-85D1-B61717411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4EF1D-947D-4142-8CB8-77E8B681A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5A534-CA43-4150-9EDC-8EDAD901F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EA92E-91B0-4B49-8408-B92D8942C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E4925-2860-47B3-B654-15A45336D36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굴림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71EB8-B7FA-48D8-944A-FFE4B0B2C3C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b2b2b2"/>
                </a:solidFill>
                <a:latin typeface="굴림"/>
              </a:rPr>
              <a:t>제 </a:t>
            </a:r>
            <a:r>
              <a:rPr b="0" lang="en-US" sz="4800" spc="-1" strike="noStrike">
                <a:solidFill>
                  <a:srgbClr val="b2b2b2"/>
                </a:solidFill>
                <a:latin typeface="굴림"/>
              </a:rPr>
              <a:t>12</a:t>
            </a:r>
            <a:r>
              <a:rPr b="0" lang="zh-CN" sz="4800" spc="-1" strike="noStrike">
                <a:solidFill>
                  <a:srgbClr val="b2b2b2"/>
                </a:solidFill>
                <a:latin typeface="굴림"/>
              </a:rPr>
              <a:t>장 중도 중복장애아 교육</a:t>
            </a:r>
            <a:endParaRPr b="0" lang="en-US" sz="48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도 중복장애아의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진흥법에 제시 없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직업재활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증장애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애인 중 근로능력이 현저하게 상실된 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사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심신장애의 정도가 무겁고 또한 장애가 두 가지 혹은 그 이상 중복해 있는 경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중도 중복장애의 정의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미국의 중증장애인협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통합된 지역사회에 참여하고 장애와 관계없이 모든 시민들이 누릴 수 있는 질적인 삶을 즐기기 위한 한 가지 이상의 주요 활동에 있어서 확장적이고 지속적인 지원을 필요로 하는 개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정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장애 정도가 심하거나 두 가지 이상 중복된 경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IQ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와 적응행동에 현저한 결함이 있어 학습에 확장적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지속적 지원을 필요로 하는 아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본인과 가족에게 거부감을 줄 수 있음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학습지도 방법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팀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다학문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간학문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학문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과제분석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개별 및 그룹 지도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4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매체 활용과 재활공학 기구 활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5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의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6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통합환경 구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평가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평가의 유의점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선행 조건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발달의 순서 파악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미세한 변화에 대처하는 미시적 관점의 평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세밀한 관찰과 기록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다면적이고 종합적인 평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평가의 문제점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선행연구보다는 교사의 관찰과 노력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장애의 유형과 정도 다양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발달수준의 복잡성과 다양성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기록에 의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미세 발달의 평가 한계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차후 교육을 위한 평가로 활용되어야 함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질문을 위한 </a:t>
            </a:r>
            <a:r>
              <a:rPr b="0" lang="en-US" sz="4400" spc="-1" strike="noStrike">
                <a:solidFill>
                  <a:srgbClr val="b2b2b2"/>
                </a:solidFill>
                <a:latin typeface="굴림"/>
              </a:rPr>
              <a:t>5</a:t>
            </a: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초의 인내</a:t>
            </a:r>
            <a:r>
              <a:rPr b="0" lang="en-US" sz="4400" spc="-1" strike="noStrike">
                <a:solidFill>
                  <a:srgbClr val="b2b2b2"/>
                </a:solidFill>
                <a:latin typeface="굴림"/>
              </a:rPr>
              <a:t>!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619280" y="1700280"/>
            <a:ext cx="590544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9T01:32:17Z</dcterms:created>
  <dc:creator>.</dc:creator>
  <dc:description/>
  <dc:language>en-US</dc:language>
  <cp:lastModifiedBy>f</cp:lastModifiedBy>
  <dcterms:modified xsi:type="dcterms:W3CDTF">2007-05-17T01:49:17Z</dcterms:modified>
  <cp:revision>7</cp:revision>
  <dc:subject/>
  <dc:title>제 12장 개별 사정과 교육계획</dc:title>
</cp:coreProperties>
</file>