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35ACD-1158-4A40-94DF-B4B12EB5F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8D25B-F36E-44CE-9DFB-FAF4F78AD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5FE22-9C84-4A44-9B29-4DE67CF74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65E30-D7EE-4F85-8350-C307BA22C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C9D28-A53C-4E47-A561-C26B08EAF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53E75-ECAC-4ED3-B3FC-A791F87F6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8E21A-EBF2-4929-B0A2-525150548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14257-A882-48A6-A9F5-185265178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052EE-AC4A-4C25-80EB-DE366411F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C0E3A-1270-46F2-BE9B-5E7DE99FA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82D50-0657-4645-9694-F5F5BAEC9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C6869-4842-48EB-88E7-467A3CAC2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86E89-856B-4CD1-BD7F-C072CFB37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E3097-EFF7-4407-BDB6-794F4A935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402C1-52BF-4235-A3D5-EFEB0D1BF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0DAB7-3E3D-4218-87C7-4EF4A5F89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D296C-A297-4551-A2FC-54C59E494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2B467-F159-45F5-8F9C-90CFBD0F3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CF538-A5BC-474F-BDFD-E8A1B08A6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43B26-5B68-4A66-9E1C-89F5924B9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F0642-4D08-41B2-BCAA-70884C254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10C07-195E-4BEC-925B-AEA2BD671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AA539-E20E-4EC0-82CF-634A70174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6D38B-59C0-4393-A422-39D59EBD2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EA67C-70F2-4794-8EA6-810DEB6176B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713A4-BE32-4694-BEBA-F096433AABB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68320"/>
            <a:ext cx="777240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cc"/>
                </a:solidFill>
                <a:latin typeface="굴림"/>
              </a:rPr>
              <a:t>제 </a:t>
            </a:r>
            <a:r>
              <a:rPr b="0" lang="en-US" sz="5400" spc="-1" strike="noStrike">
                <a:solidFill>
                  <a:srgbClr val="ffffcc"/>
                </a:solidFill>
                <a:latin typeface="굴림"/>
              </a:rPr>
              <a:t>8</a:t>
            </a:r>
            <a:r>
              <a:rPr b="0" lang="zh-CN" sz="5400" spc="-1" strike="noStrike">
                <a:solidFill>
                  <a:srgbClr val="ffffcc"/>
                </a:solidFill>
                <a:latin typeface="굴림"/>
              </a:rPr>
              <a:t>장 시각장애아 교육</a:t>
            </a:r>
            <a:endParaRPr b="0" lang="en-US" sz="5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법적 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두 눈의 교정시력이 각각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0.04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미만인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시력의 손상이 심하여 시각에 의해 학습과제를 수행할 수 없고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촉각이나 청각을 학습의 주요 수단으로 사용하는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두 눈의 교정시력이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0.04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이상이나 특정의 학습매체 또는 과제의 수정을 통해서도 시각적 과제수행이 어려운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특정의 광학기구 학습매체 또는 설비를 통하여서만 시각적 과제수행을 할 수 있는 자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교육적 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맹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점자나 촉각 및 청각매체를 통해서 교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저시력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잔존시력을 활용하여 문자를 확대하거나 광학적인 기구를 사용하여 교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기타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손상 시기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시각 표상의 유무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) 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선천성과 후천성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3-5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세 또는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세를 기준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선천맹과 후천맹으로 구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눈의 구조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눈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각중추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누기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결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외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각막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공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홍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모양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맥락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망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방수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정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리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망막과 시각중추를 이어주는 시신경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는 시신경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신경교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색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외측슬상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방성 등으로 구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빛에 대한 반응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각막 – 동공 – 홍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빛의 양 조절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정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정체 – 유리체 – 망막 – 시신경과 시신경 교차 – 외측슬상체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방선 – 두뇌의 피질에 도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cc"/>
                </a:solidFill>
                <a:latin typeface="굴림"/>
              </a:rPr>
              <a:t>원인 및 출현율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인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안질환 외 다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출현율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0.03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우리나라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- 0.07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언어지도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의미보다는 언어 자체를 즐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다양한 음성적 표현의 부족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큰 말소리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말의 속도가 느림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몸짓이나 입술 움직임이 적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점자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듣기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저시력학생의 읽기 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Vygotsky</a:t>
            </a: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의 교육에 대한 시각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..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교사는 모든 것을 가지고 있으나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아동은 가진 것이 전혀 없는 잘못된 원칙에 의존하는 수업의 결과에서 나타난 아동의 수동성은 과학적 사고의 시각에서 엄청난 죄악이다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 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.. passivity of the student is the greatest sin from a scientific point of view, since it relies on the false principle that the teacher is everything and the pupil nothing.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인용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: Bozhovich and Slavina 1972, p.165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cc"/>
                </a:solidFill>
                <a:latin typeface="굴림"/>
              </a:rPr>
              <a:t>Any questions?</a:t>
            </a:r>
            <a:endParaRPr b="0" lang="en-US" sz="6000" spc="-1" strike="noStrike">
              <a:solidFill>
                <a:srgbClr val="ffffcc"/>
              </a:solidFill>
              <a:latin typeface="굴림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124000" y="1844640"/>
            <a:ext cx="489600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1T03:28:55Z</dcterms:created>
  <dc:creator>.</dc:creator>
  <dc:description/>
  <dc:language>en-US</dc:language>
  <cp:lastModifiedBy>f</cp:lastModifiedBy>
  <dcterms:modified xsi:type="dcterms:W3CDTF">2007-05-15T06:52:01Z</dcterms:modified>
  <cp:revision>17</cp:revision>
  <dc:subject/>
  <dc:title>제 8장 순회교육</dc:title>
</cp:coreProperties>
</file>